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ТЕГРИСАНЕ АКАДЕМСК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78544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ТРУЧНА СТУДЕНТСКА ПРА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давањ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 Прашк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рад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израду потребно 13,33г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gC0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 10 грам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HC0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C0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Све супстанце просејати кроз сито 0,3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мерити супстанце на картицама и додати у тарионик редоследом од најмање количине ка највећој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HC0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C0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а зат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gC0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шати по принципу сложених прашкова методом дуплирањ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(ОБАВЕЗНО ПРИМЕНИТИ МЕТОДУ ДУПЛИРАЊА НА ДАТИ ПРИМЕР!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12536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пр. 2г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HC0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2г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C0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 додати онда 4 г ил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HC0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C0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 и једног и другог довољ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вити док се не утроше све супстанце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ришљави шећер се додаје на кра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давање и сигнатур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здаје се као неподељени прашак у бочици широког грла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ad vitrum collo ampl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гнатура је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бе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на којој пише -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После јела на врх ножа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доњем левом углу сигнатуре пише се датум, а у доњем десном потп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потреба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ацид, карминат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72200" y="0"/>
            <a:ext cx="2819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Triturat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63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итурати су смеше лековите супстанце јаког деловања или препарата дрога и средства за допуњавање, најчешће лакто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рађују се да би се лековита супстанца која је прописана у количини</a:t>
            </a:r>
            <a:r>
              <a:rPr b="0" lang="sr-C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800000"/>
                </a:solidFill>
                <a:latin typeface="Arial"/>
              </a:rPr>
              <a:t>мањој од 0,05 грама</a:t>
            </a:r>
            <a:r>
              <a:rPr b="0" lang="sr-C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ла лакше и тачније одмери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ске дозе лековитих супстанци јаког или врло јаког деловања су ниске и такве супстанце се прописују у малим или немерљивим количин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датак индиферентног средства за допуњавање повећава масу прашка што олакшава одмеравање и руков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итурати се праве у прописаној концентрацији као тритурати прашкови или као тритурати м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115000"/>
              </a:lnSpc>
              <a:spcBef>
                <a:spcPts val="499"/>
              </a:spcBef>
              <a:buClr>
                <a:srgbClr val="8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00000"/>
                </a:solidFill>
                <a:latin typeface="Arial"/>
              </a:rPr>
              <a:t>ТРИТУРАТИ НИСУ НАМЕЊЕНИ ЗА НЕПОСРЕДНУ УПОТРЕБУ ПАЦИЈЕНАТА, ВЕЋ ИХ ФАРМАЦЕУТ КОРИСТИ ИСКЉУЧИВО ЗА ПРИПРЕМУ ДРУГИХ ЛЕКОВИТИХ ПРЕ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790120" cy="57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Израђују се у концентрациј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1:10  или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1:100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1:1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ff6600"/>
                </a:solidFill>
                <a:uFillTx/>
                <a:latin typeface="Arial"/>
              </a:rPr>
              <a:t>Број грама лек.супстанце</a:t>
            </a:r>
            <a:r>
              <a:rPr b="1" lang="sr-CS" sz="2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200" spc="-1" strike="noStrike" u="sng">
                <a:solidFill>
                  <a:srgbClr val="009900"/>
                </a:solidFill>
                <a:uFillTx/>
                <a:latin typeface="Arial"/>
              </a:rPr>
              <a:t>Број грама тритур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За тритурат 1:10 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6600"/>
                </a:solidFill>
                <a:latin typeface="Arial"/>
              </a:rPr>
              <a:t>1 грам лек. супстанце</a:t>
            </a:r>
            <a:r>
              <a:rPr b="1" lang="sr-CS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и 9 грама лактозе =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9900"/>
                </a:solidFill>
                <a:latin typeface="Arial"/>
              </a:rPr>
              <a:t>10 грама тритур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За тритурат 1:100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6600"/>
                </a:solidFill>
                <a:latin typeface="Arial"/>
              </a:rPr>
              <a:t>1 грам лек. супстанце</a:t>
            </a:r>
            <a:r>
              <a:rPr b="1" lang="sr-CS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и 99 грама лактозе =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9900"/>
                </a:solidFill>
                <a:latin typeface="Arial"/>
              </a:rPr>
              <a:t>100 грама тритур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За тритурат 1:1000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6600"/>
                </a:solidFill>
                <a:latin typeface="Arial"/>
              </a:rPr>
              <a:t>1 грам лек.супстанце</a:t>
            </a:r>
            <a:r>
              <a:rPr b="1" lang="sr-CS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и 999 грама лактозе =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9900"/>
                </a:solidFill>
                <a:latin typeface="Arial"/>
              </a:rPr>
              <a:t>1000 гр. тритурата</a:t>
            </a:r>
            <a:r>
              <a:rPr b="0" lang="sr-CS" sz="2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 flipV="1">
            <a:off x="2209680" y="914040"/>
            <a:ext cx="762120" cy="30492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 flipH="1" flipV="1">
            <a:off x="3580920" y="990720"/>
            <a:ext cx="1219320" cy="45720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и тритурат (1:10; 1:100; 1:1000) се прави зависи од количине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о је потребно 0,01 грам лековите супстанце  - прави се тритурат  1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1 грам - прва мерљива кол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0003 грама – прави се тритурат 1: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3 грама прва мерљива колич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шање тритурата - у тарионику, пистилом, врло ригорозн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4 минута у једну страну и 4 минута у другу страну – укупно 30 мин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ро мешање тритурата -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потребно је добити препарат код кога ће садржај активне супстанце у сваком делу тритурата бити приближно исти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шање се започиње тако што се у тарионик стави лактозе приближно исте количине колико и јако делујућ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кон укупног мешања од 8 минута у тарионик се додаје она количина лактозе која је приближно једнака количини прашка већ присутног у тарион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едећи овај принцип утроши се сва лактоза предвиђена за триту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6312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Rp/ Atropini sulfatis         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0,0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                    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Papaverini chloridi    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0,2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                    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Lactosi                      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0,3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800000"/>
                </a:solidFill>
                <a:latin typeface="Arial"/>
              </a:rPr>
              <a:t>                 </a:t>
            </a: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                      </a:t>
            </a:r>
            <a:r>
              <a:rPr b="1" i="1" lang="sr-Latn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800000"/>
                </a:solidFill>
                <a:latin typeface="Arial"/>
              </a:rPr>
              <a:t>M.f. pulv. D.t.d. No 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                                   </a:t>
            </a:r>
            <a:r>
              <a:rPr b="1" i="1" lang="sr-Latn-CS" sz="2000" spc="-1" strike="noStrike">
                <a:solidFill>
                  <a:srgbClr val="800000"/>
                </a:solidFill>
                <a:latin typeface="Arial"/>
              </a:rPr>
              <a:t>D.S. </a:t>
            </a: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3 пута дневно по 1 праш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ложен подељен прашак за  интер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тода диспензије -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D.t.d. N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800000"/>
                </a:solidFill>
                <a:uFillTx/>
                <a:latin typeface="Arial"/>
              </a:rPr>
              <a:t>Провера дозе за  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Atropin</a:t>
            </a:r>
            <a:r>
              <a:rPr b="1" lang="sr-CS" sz="24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ulfa</a:t>
            </a:r>
            <a:r>
              <a:rPr b="1" lang="sr-Latn-CS" sz="2400" spc="-1" strike="noStrike" u="sng">
                <a:solidFill>
                  <a:srgbClr val="800000"/>
                </a:solidFill>
                <a:uFillTx/>
                <a:latin typeface="Arial"/>
              </a:rPr>
              <a:t>s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Ph.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Ј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ug. IV)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.п.д. = 0,000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.п.д. = 0,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.д.д. = 0,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етода диспензије- прописана је количина за један праш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ичина атропин сулфата у једном прашку је 0,0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,0005 поредимо са  С.п.д. и Н.п.д за атропин сулфат - дозе нису прекорач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вера Н.д.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ножимо количину атропин сулфата у једном прашку са 3, јер пацијент користи 3 прашка дне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ј. 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x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,0005= 0,0015 колико пацијент унесе дне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,001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Н.д.д. = 0,004, чиме  и највећа дневна доза 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 прекорач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Rp/ Atropini sulfatis         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0,0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Papaverini chloridi    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0,2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Lactosi                      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0,3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i="1" lang="sr-Latn-CS" sz="2000" spc="-1" strike="noStrike">
                <a:solidFill>
                  <a:srgbClr val="800000"/>
                </a:solidFill>
                <a:latin typeface="Arial"/>
              </a:rPr>
              <a:t>M.f. pulv. D.t.d. No 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sr-Latn-CS" sz="2000" spc="-1" strike="noStrike">
                <a:solidFill>
                  <a:srgbClr val="800000"/>
                </a:solidFill>
                <a:latin typeface="Arial"/>
              </a:rPr>
              <a:t>D.S. </a:t>
            </a: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3 пута дневно по 1 праш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овера дозе за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paveri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lori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h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g. IV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.п.д. = 0,0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.п.д. =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.д.д. = 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ичина папаверин хлори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 једном прашку је 0,2 =  Н.п.д и доза није прекорач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проверу највеће дневне дозе множимо 3 прашка дневно 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x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,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,6 па и н.д.д. у овом рецепту није прекорач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64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личина атропин сулфата немерљива  (0,003 грама за 6 прашков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ора се правити тритурат 1:100 јер је 0,3 гра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 0,003 грама 100 пу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итурат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1:100  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грам атропин сулфата помешан са 99 грама лактоз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У пракси правимо не 100 грама тритурата него 5 грама тритурата од којег одмеравамо 0,3 грама за рецеп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итурат 1:100 јер је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0,05 грама најмања количина за мерењ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ј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cc33"/>
                </a:solidFill>
                <a:latin typeface="Arial"/>
              </a:rPr>
              <a:t>1: 100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= </a:t>
            </a:r>
            <a:r>
              <a:rPr b="1" lang="sr-CS" sz="2400" spc="-1" strike="noStrike">
                <a:solidFill>
                  <a:srgbClr val="33cc33"/>
                </a:solidFill>
                <a:latin typeface="Arial"/>
              </a:rPr>
              <a:t>0,05 : </a:t>
            </a: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x </a:t>
            </a:r>
            <a:r>
              <a:rPr b="1" lang="sr-C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= 5 грама количина тритурата коју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равим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ко грама тритурата нам је потреб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cc33"/>
                </a:solidFill>
                <a:latin typeface="Arial"/>
              </a:rPr>
              <a:t>1: 100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= </a:t>
            </a:r>
            <a:r>
              <a:rPr b="1" lang="sr-CS" sz="2400" spc="-1" strike="noStrike">
                <a:solidFill>
                  <a:srgbClr val="33cc33"/>
                </a:solidFill>
                <a:latin typeface="Arial"/>
              </a:rPr>
              <a:t>0,003 (колико је потребно за свих 6 прашкова): </a:t>
            </a: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=0,3 грама тритурата 1:100 нам је потребно за цео рецеп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АЖЊА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ТРИТУРАТ СЕ НИКАД НЕ ИЗДАЈЕ ПАЦИЈЕНТУ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Прашкови које прописује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h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Jug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84360" y="1773360"/>
            <a:ext cx="473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ulv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onspergen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ranu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osipulv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iturat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71380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ВАЖНО – ОБРАТИТИ ПАЖЊ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3  грама тритурата 1:100 садрж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0,003грама атропин сулфата  и 0,297 г лакто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 се ова лактоза која се налази у тритурату мора узети у обзир и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дузе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укупне количине лактозе прописане на рецеп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ј. укупна лактоза се добија: 0,3грама  за један прашак тј. 1,8 грама за 6 прашкова па се у изради не користи више 1,8 грама лактозе већ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,8 грама – 0,297 грама =1,503 гр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рада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итурат израђује се на следећи нач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мери се 0,05 грама атропин сулфата и 4,95 грама лакто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шање се врши тако што се у тарионик прво стави приближно иста количина лактозе (количина одговара количини атропин сулфата у рецепт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тим се дода атропин сулфат и 4 минута меша пистилом у једну страну, па затим 4 минута у другу стра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да се од преостале лактозе дода она количина која одговара укупној већ присутној количини прашка у тариони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шање се наставља на исти начин, док се не утроши сва лакто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итурат се треба направити за пола час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и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ваги одмеримо 0,3 грама од овог триту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 количина се пренесе у други тарионик у који се дода 1,2 грама папаверин хлорида и 1,5 грама лактоз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шање је принципом израде сложених прашк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давање и сигнатур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упну масу сложеног прашка поделимо на 6 делова и спакујемо у папирне капс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псуле у папирну белу кесицу на којој пише „3 пута дневно по 1 прашак“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доњем левом углу сигнатуре пише се датум, а у доњем десном потп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потреба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азмолит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00800" y="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Dosipulv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8637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дељени прашков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зирани препарати лекова који се примењују орал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зрађују се уз додатак помоћних матер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са прашка - приближно око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0,5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гр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ко другачије није прописано као средство за допуњавање се користи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лакто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Из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рење супстанц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шање техником дуплира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љење на задати број до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аковање у омоте – капсу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да у тарио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шкасте супстанце се додају од најмање количине ка највећој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а технике дуплир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шање је пистилом са десна на лево и добро измешан прашак се отприлике дели на задати број доза који може бити највише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 је број доза већи од 10, целокупну масу прашка поделимо на две или три гомилице, па те масе прешкова делимо на одговарајући број д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љење на гом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што слич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 облику купа и свака се налази на посебној картици одакле се сипа у капсулу за паковање подељеног прашка од папира или цератне харт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 прешак тежи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или више потребно је сваки прашак одмерити посебно на ваги пре сипања у папирну капсу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ељени прашкови могу бити на рецепту прописани методом 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дивизи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диспензи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457200"/>
            <a:ext cx="8618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Метода дивизиј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рецепту је прописан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купна количина лека коју треба поделити на прописани број доз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 тада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ubscripti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с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ivide in doses aequales numero....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ели у једнаких доза број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iv. in dos.aeq. No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Метода диспензиј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рецепту је прописан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количина само за један прашак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, која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се множи бројем доз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ј. прашкова које прописује рецепт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а тада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ubscripti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с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entur tales doses numero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ј таквих доза број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.t.d. No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1920" y="188640"/>
            <a:ext cx="8991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Rp/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Kalii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hloridi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        0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actosi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                 0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pulvis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                     </a:t>
            </a:r>
            <a:r>
              <a:rPr b="1" i="1" lang="pl-PL" sz="2400" spc="-1" strike="noStrike">
                <a:solidFill>
                  <a:srgbClr val="800000"/>
                </a:solidFill>
                <a:latin typeface="Arial"/>
              </a:rPr>
              <a:t>D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t. d. </a:t>
            </a:r>
            <a:r>
              <a:rPr b="1" i="1" lang="pl-PL" sz="24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i="1" lang="sr-CS" sz="2400" spc="-1" strike="noStrike" baseline="30000">
                <a:solidFill>
                  <a:srgbClr val="800000"/>
                </a:solidFill>
                <a:latin typeface="Arial"/>
              </a:rPr>
              <a:t>0</a:t>
            </a:r>
            <a:r>
              <a:rPr b="1" i="1" lang="pl-PL" sz="2400" spc="-1" strike="noStrike">
                <a:solidFill>
                  <a:srgbClr val="800000"/>
                </a:solidFill>
                <a:latin typeface="Arial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i="1" lang="pl-PL" sz="2400" spc="-1" strike="noStrike">
                <a:solidFill>
                  <a:srgbClr val="800000"/>
                </a:solidFill>
                <a:latin typeface="Arial"/>
              </a:rPr>
              <a:t>D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i="1" lang="pl-PL" sz="24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 3</a:t>
            </a:r>
            <a:r>
              <a:rPr b="1" i="1" lang="pl-PL" sz="24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1 пра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ељени прашак за унутрашњу употребу - метода  диспензије - дате количине само за један прашак, а рецепт нагалашава да треба издати таквих 20 доза. Лактоза инертно средство за допуња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ратити пажњу да треба још додати лактозе до 0,5 гра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800000"/>
                </a:solidFill>
                <a:uFillTx/>
                <a:latin typeface="Arial"/>
              </a:rPr>
              <a:t>Провера дозе за </a:t>
            </a:r>
            <a:r>
              <a:rPr b="1" lang="sr-Latn-CS" sz="2400" spc="-1" strike="noStrike" u="sng">
                <a:solidFill>
                  <a:srgbClr val="800000"/>
                </a:solidFill>
                <a:uFillTx/>
                <a:latin typeface="Arial"/>
              </a:rPr>
              <a:t>KCl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Ph.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Ј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ug. IV)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: С.п.д. за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KCl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= 1гр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 свакој дози има 0,1грам калијум хлори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lt;1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рама - С.п.д. није прекорач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помена: у фармакопеји се не наводи Н.д.д. за калијум хлорид и у таквим случајевима се проверава само с.п.д., што се дешава код појединих супстанци слабог делов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5183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рада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ђује се у тарионику. Одмери се на ваги 0,1г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2 грама калијум хлор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0,2+ 0,2 = 0,4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20 =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грама лакто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 тарионик се додаје најпре половина калијум хлорида и иста количина лактозе. На пр. 1г калијум хлорида и 1г лактозе, па затим кад се то промеша додати 2 г лактозе и наставити тако све док се не утроши лактоза. Меша се пистилом с десна у лево скидајући картицом честице слепљене за зидове тарионика. Укупна количина прашка се подели отприлике на два једнака дела, а сваки део се затим дели на десет гомилица на картица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давање и сигнатур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ашак се пакује у папирну капсулу, 20 папирних капсула у у папирну белу кесицу на којој се напиш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 праш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У доњем левом углу пише се датум, а у доњем десном потп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надомештање губитка калијума у постојећој терапиј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0752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gnesii carbonic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13,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trii hydrocarbo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lcii carbonati praeccipit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ти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ā  1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aeosaccharii mentae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5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actos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,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fiat. pul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D. ad vitrum collo a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S.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Узети после јела на врх но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Провера дозе за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MgC03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h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. IV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с.п.д. за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gC0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0,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г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40: 13,3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,5 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0,5 гр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gC0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.п.д. за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gC0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0,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грама, што значи да доза није прекорач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Провера дозе за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NaHC03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h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. IV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с.п.д. за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HC0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г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40: 1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,5 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0,375 грам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HC0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 1 грам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тј. доза није прекорач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Провера дозе за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CaC03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h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. IV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с.п.д. за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aC0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 г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40: 1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,5 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0,375 грам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aC03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што значи 0,37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 2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ј. доза није прекорач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aca</cp:lastModifiedBy>
  <dcterms:modified xsi:type="dcterms:W3CDTF">2018-03-11T18:50:18Z</dcterms:modified>
  <cp:revision>35</cp:revision>
  <dc:subject/>
  <dc:title>Slide 1</dc:title>
</cp:coreProperties>
</file>